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567C-FA01-4756-973F-8E6E1E49C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7BBA-88BA-4158-9F06-47572BE88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52B1-D3AC-4E75-8581-AAC2B3650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D428-27AC-468B-A439-9980769AA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77B4-0386-4DC2-B43C-D2DD4ADE1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8E87-88CB-4F76-961D-89C9B0420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AEF5-7117-414F-8C3A-A8ABE7593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8515-911C-4DA5-B675-D11B9DE60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5DF5-4F69-4173-A44A-53D17EE18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A7BE-3FC6-4476-AC24-908D13872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D33A-14FE-4090-AFB4-DE95D98AE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3772-6B51-4512-81CB-0BBE15F8D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2F35-0006-441A-A689-C495D55F4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6447-819D-46EB-8A5D-41ADBECAD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69AC-9DEF-4CB5-9551-8B8C9D747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977F-6538-41DA-B850-C5DA44157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BE21-818C-4E5F-82AF-48127132B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F7D3-3794-48E8-A781-11267B32D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97F5-2568-4B28-BC2B-3D299EE47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43C7-9B0A-49C4-8CDB-AF0BD0ECD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3716-020D-43BD-8260-75DDEC250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4139-8778-4365-A94F-726E377DF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74AE-94A6-4D03-9D8B-2BC6EC000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ED35-7E28-4AFC-99E1-6869873F7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3A49-D4BF-4B39-BAEF-950F99504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B2FD-E9CA-4853-BBD9-3DB35C86B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C4FC-AD97-46AF-82EA-8B5A2058B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B7A0-BD48-4121-8D4A-DE845064C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A009-9C06-442B-9CB3-05A8B62CF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F17E-D09A-4568-A824-3F89C83E5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D770-7AEB-4B03-9A18-084CB02FE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57DE-5FCF-426D-831E-C62DE5477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9EA3-85A4-42DB-8D52-4A69F57A4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145A-1552-444D-8261-CF7EFE5A4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29C0-DFB0-41D9-8E9E-66A0BD868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D2D8-A43E-4C07-80F1-1D6F6D02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325-2B59-4AF8-A497-C4B28A21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040-D609-4FC4-9488-B718C854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256-7219-4790-A7BC-CF265C78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F42-062F-459B-BC42-6CE25345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57E-30F2-4C33-B40A-EB332C2E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CCB-9307-4B70-A978-D1B55FFD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6DE-AD0D-4EE9-9B46-6666257C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D64-75F7-4998-B2D7-E0041863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BDD-0BE0-4027-A5FB-7BD47781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F1E-E960-48C1-8F7A-B6E6199F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739-2849-4BDB-B8AC-C35A39B9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B7EC-40DA-4C3F-8C45-F47F4E729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../Downloaded%20Videos/The%20Secret%20of%20Life%20--%20Discovery%20of%20DNA%20Structure.avi" TargetMode="External"/><Relationship Id="rId2" Type="http://schemas.openxmlformats.org/officeDocument/2006/relationships/hyperlink" Target="file:///../../../Downloaded%20Videos/The%20Secret%20of%20Life%20--%20Discovery%20of%20DNA%20Structure.avi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../../../Downloaded%20Videos/DNA%20Replication%20Process.avi" TargetMode="External"/><Relationship Id="rId2" Type="http://schemas.openxmlformats.org/officeDocument/2006/relationships/hyperlink" Target="file:///../../../Downloaded%20Videos/DNA%20Replication%20Process.avi" TargetMode="Externa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03C7-47DC-41B2-A204-811B15F58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D78B-AB7B-408E-8443-926F1FAAE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atson and Crick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006800" cy="4648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5"/>
          <p:cNvSpPr/>
          <p:nvPr/>
        </p:nvSpPr>
        <p:spPr>
          <a:xfrm>
            <a:off x="6019920" y="1905120"/>
            <a:ext cx="2361960" cy="1218960"/>
          </a:xfrm>
          <a:prstGeom prst="wedgeRoundRectCallout">
            <a:avLst>
              <a:gd name="adj1" fmla="val -67138"/>
              <a:gd name="adj2" fmla="val 287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’re big fat thiev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Video: History of DNA Discovery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stions to Pond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was Linus Pauling and why was his DNA model incorr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id Rosalind Franklin “help” Watson and Crick to develop their model of DN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79132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..\..\..\Downloaded Videos\The Secret of Life -- Discovery of DNA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tructure.a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DDA4-6891-47EB-894F-A6FF80845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Bas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is a type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ucleic Ac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de of monomer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unction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store genetic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32004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531F-060A-473A-81B8-AC81A80FF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ade of a sugar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5740560" y="1752480"/>
            <a:ext cx="288900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C1D0-3591-4267-A4B9-DA6340BBB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07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10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21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25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Footer Placeholder 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4864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21BB-450A-4E57-9ECA-E13A94C6E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helix is formed by nucleotides linked to one anoth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D123-D416-4E3A-B2A4-F6229A345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38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45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50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ooter Placeholder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BFE5-0A4A-4914-A7BA-D358AA9CA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91FC-28AE-4788-AC6D-74B77C8E7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4876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part of a strand that ends with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called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 prime (5’) 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part of a strand that ends with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suga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called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 prime (3’) 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Footer Placeholder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9" descr=""/>
          <p:cNvPicPr/>
          <p:nvPr/>
        </p:nvPicPr>
        <p:blipFill>
          <a:blip r:embed="rId1"/>
          <a:stretch/>
        </p:blipFill>
        <p:spPr>
          <a:xfrm>
            <a:off x="6324480" y="1447920"/>
            <a:ext cx="1389240" cy="4038480"/>
          </a:xfrm>
          <a:prstGeom prst="rect">
            <a:avLst/>
          </a:prstGeom>
          <a:ln w="0">
            <a:noFill/>
          </a:ln>
        </p:spPr>
      </p:pic>
      <p:sp>
        <p:nvSpPr>
          <p:cNvPr id="167" name="Oval 20"/>
          <p:cNvSpPr/>
          <p:nvPr/>
        </p:nvSpPr>
        <p:spPr>
          <a:xfrm>
            <a:off x="5943600" y="1295280"/>
            <a:ext cx="144792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1"/>
          <p:cNvSpPr/>
          <p:nvPr/>
        </p:nvSpPr>
        <p:spPr>
          <a:xfrm>
            <a:off x="5943600" y="4419720"/>
            <a:ext cx="1371600" cy="1218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8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743200" cy="4343400"/>
          </a:xfrm>
          <a:prstGeom prst="rect">
            <a:avLst/>
          </a:prstGeom>
          <a:ln w="0">
            <a:noFill/>
          </a:ln>
        </p:spPr>
      </p:pic>
      <p:sp>
        <p:nvSpPr>
          <p:cNvPr id="172" name="Line 9"/>
          <p:cNvSpPr/>
          <p:nvPr/>
        </p:nvSpPr>
        <p:spPr>
          <a:xfrm flipV="1">
            <a:off x="5334120" y="586692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"/>
          <p:cNvSpPr/>
          <p:nvPr/>
        </p:nvSpPr>
        <p:spPr>
          <a:xfrm flipH="1" flipV="1">
            <a:off x="7315200" y="586692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038480" y="5867280"/>
            <a:ext cx="121932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nd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 to 3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7772400" y="5867280"/>
            <a:ext cx="121932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nd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 to 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0B1C-436D-43E0-BE42-38EDD6321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180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183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B548-9353-4B11-BC0F-9CBA2521F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ydrogen bonds connect the ba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2001240" y="3853080"/>
            <a:ext cx="5669280" cy="2562120"/>
            <a:chOff x="2001240" y="3853080"/>
            <a:chExt cx="5669280" cy="2562120"/>
          </a:xfrm>
        </p:grpSpPr>
        <p:sp>
          <p:nvSpPr>
            <p:cNvPr id="191" name="AutoShape 9"/>
            <p:cNvSpPr/>
            <p:nvPr/>
          </p:nvSpPr>
          <p:spPr>
            <a:xfrm>
              <a:off x="5892840" y="4916520"/>
              <a:ext cx="1777680" cy="1473120"/>
            </a:xfrm>
            <a:prstGeom prst="hexagon">
              <a:avLst>
                <a:gd name="adj" fmla="val 30163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AutoShape 10"/>
            <p:cNvSpPr/>
            <p:nvPr/>
          </p:nvSpPr>
          <p:spPr>
            <a:xfrm>
              <a:off x="3454200" y="4916520"/>
              <a:ext cx="1778040" cy="1473120"/>
            </a:xfrm>
            <a:prstGeom prst="hexagon">
              <a:avLst>
                <a:gd name="adj" fmla="val 30169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1"/>
            <p:cNvSpPr/>
            <p:nvPr/>
          </p:nvSpPr>
          <p:spPr>
            <a:xfrm>
              <a:off x="6536160" y="536400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4015800" y="536400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13"/>
            <p:cNvSpPr/>
            <p:nvPr/>
          </p:nvSpPr>
          <p:spPr>
            <a:xfrm>
              <a:off x="4825800" y="48909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4"/>
            <p:cNvSpPr/>
            <p:nvPr/>
          </p:nvSpPr>
          <p:spPr>
            <a:xfrm>
              <a:off x="5283000" y="5653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4825800" y="641520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16"/>
            <p:cNvSpPr/>
            <p:nvPr/>
          </p:nvSpPr>
          <p:spPr>
            <a:xfrm>
              <a:off x="5346720" y="411480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 flipH="1">
              <a:off x="5626080" y="4599000"/>
              <a:ext cx="1015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AutoShape 18"/>
            <p:cNvSpPr/>
            <p:nvPr/>
          </p:nvSpPr>
          <p:spPr>
            <a:xfrm rot="18044400">
              <a:off x="2272320" y="4142520"/>
              <a:ext cx="152712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Footer Placeholder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process of specific bases bonding together to form the rungs of the ladder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omplementary Base Pa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4" descr="16x5bc"/>
          <p:cNvPicPr/>
          <p:nvPr/>
        </p:nvPicPr>
        <p:blipFill>
          <a:blip r:embed="rId1"/>
          <a:stretch/>
        </p:blipFill>
        <p:spPr>
          <a:xfrm>
            <a:off x="4267080" y="1828800"/>
            <a:ext cx="4572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F5FB-57FE-46D2-871D-0D1DA47CE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208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217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Footer Placeholder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CB1A-69AB-44AB-A7DF-85A6F3ADF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F26B-1D17-4F22-9E6C-FA16CB1B5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C162-C4D6-412B-B1B0-29A72FFB9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Ques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rite out the sequence of a strand complementary to the following strand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TAGCATG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DC8E-950C-4F53-A911-52C94D526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Answ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riginal Strand: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TAGCATGG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omplementary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ATCGTAC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Strand: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DC39-4322-4C11-AD10-1BFFBF714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EF44-E927-4F08-8B3C-CCEAC43FA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4E73-CC2E-4081-ABF9-644FAF855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252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Footer Placeholder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73E5-92BB-4F5B-AAD1-65AC167DE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270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Footer Placeholder 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1B6C-24E8-4ACA-B7E0-A2452D53E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314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Footer Placeholder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AC17-51F9-4F69-85C0-C49909A3A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Steps of 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1) 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8" descr="http://www.nature.com/scitable/content/ne0000/ne0000/ne0000/ne0000/6508783/EssGen1-3_Primase_SQUARE_0.jpg"/>
          <p:cNvPicPr/>
          <p:nvPr/>
        </p:nvPicPr>
        <p:blipFill>
          <a:blip r:embed="rId1"/>
          <a:stretch/>
        </p:blipFill>
        <p:spPr>
          <a:xfrm>
            <a:off x="3429000" y="3886200"/>
            <a:ext cx="2819520" cy="2819520"/>
          </a:xfrm>
          <a:prstGeom prst="rect">
            <a:avLst/>
          </a:prstGeom>
          <a:ln w="0">
            <a:noFill/>
          </a:ln>
        </p:spPr>
      </p:pic>
      <p:cxnSp>
        <p:nvCxnSpPr>
          <p:cNvPr id="336" name="Straight Arrow Connector 9"/>
          <p:cNvCxnSpPr/>
          <p:nvPr/>
        </p:nvCxnSpPr>
        <p:spPr>
          <a:xfrm>
            <a:off x="2819520" y="4724280"/>
            <a:ext cx="1219680" cy="61056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of 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28240" y="15235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ther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ucleotid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brings them into the replication f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“primer”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created to start the new str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F132-891F-4A63-A7DC-D05F4CA57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6496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of 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240" y="2057040"/>
            <a:ext cx="4876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) 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ches free nucleotides with the correct base pairs on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emplate (parent) str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0F69-BD37-436A-8054-67BF9B461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4" descr="http://www.neb.com/nebecomm/productfiles/1936/images/F-540_fig1_v1_000027.jpg"/>
          <p:cNvPicPr/>
          <p:nvPr/>
        </p:nvPicPr>
        <p:blipFill>
          <a:blip r:embed="rId1"/>
          <a:stretch/>
        </p:blipFill>
        <p:spPr>
          <a:xfrm>
            <a:off x="5181480" y="205740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F0D0-D34A-43CA-9EC9-F50E7EBAB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2" descr="25_03"/>
          <p:cNvPicPr/>
          <p:nvPr/>
        </p:nvPicPr>
        <p:blipFill>
          <a:blip r:embed="rId1"/>
          <a:srcRect l="23262" t="26197" r="23350" b="0"/>
          <a:stretch/>
        </p:blipFill>
        <p:spPr>
          <a:xfrm>
            <a:off x="1828800" y="380880"/>
            <a:ext cx="5952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440F-24BA-4A26-960E-E4FE0AB4D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pneumonia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86B6-7481-48AC-A15C-D4A287CE2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" descr="http://bbruner.org/bitn/bitn_fig/dna_repl.gif"/>
          <p:cNvPicPr/>
          <p:nvPr/>
        </p:nvPicPr>
        <p:blipFill>
          <a:blip r:embed="rId1"/>
          <a:stretch/>
        </p:blipFill>
        <p:spPr>
          <a:xfrm>
            <a:off x="2971800" y="152280"/>
            <a:ext cx="289548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of 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90720" y="1523880"/>
            <a:ext cx="63244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) The enzyme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ligas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nects any “breaks” in the new strands and the 2 new strand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wi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ck together.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he Big Question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y are there “breaks” in the new strands at all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033D-B090-4B2E-B930-EE0461938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8600-543F-4E1D-B849-BB49BDBC9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359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Line 44"/>
          <p:cNvSpPr/>
          <p:nvPr/>
        </p:nvSpPr>
        <p:spPr>
          <a:xfrm flipH="1">
            <a:off x="2895480" y="594360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0732-D9AD-4007-8023-D646FAE38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ooter Placeholder 9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8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27432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F088-466E-4B11-A6A4-2B339D691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aking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built into the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Footer Placeholder 5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53" descr="http://bio1100.nicerweb.com/Locked/media/ch12/12_08.jpg"/>
          <p:cNvPicPr/>
          <p:nvPr/>
        </p:nvPicPr>
        <p:blipFill>
          <a:blip r:embed="rId1"/>
          <a:stretch/>
        </p:blipFill>
        <p:spPr>
          <a:xfrm>
            <a:off x="1523880" y="2286000"/>
            <a:ext cx="6324840" cy="4400640"/>
          </a:xfrm>
          <a:prstGeom prst="rect">
            <a:avLst/>
          </a:prstGeom>
          <a:ln w="0">
            <a:noFill/>
          </a:ln>
        </p:spPr>
      </p:pic>
      <p:sp>
        <p:nvSpPr>
          <p:cNvPr id="410" name="Oval 51"/>
          <p:cNvSpPr/>
          <p:nvPr/>
        </p:nvSpPr>
        <p:spPr>
          <a:xfrm>
            <a:off x="457200" y="2133720"/>
            <a:ext cx="4724280" cy="236196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8A49-0AA1-42AB-8BEE-0E8158206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218960" y="609120"/>
            <a:ext cx="739116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uilt in short sections in the opposite direction (out of the f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“breaks”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the stra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Footer Placeholder 10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105" descr="http://bio1100.nicerweb.com/Locked/media/ch12/12_08.jpg"/>
          <p:cNvPicPr/>
          <p:nvPr/>
        </p:nvPicPr>
        <p:blipFill>
          <a:blip r:embed="rId1"/>
          <a:stretch/>
        </p:blipFill>
        <p:spPr>
          <a:xfrm>
            <a:off x="1295280" y="2438280"/>
            <a:ext cx="6324840" cy="4172040"/>
          </a:xfrm>
          <a:prstGeom prst="rect">
            <a:avLst/>
          </a:prstGeom>
          <a:ln w="0">
            <a:noFill/>
          </a:ln>
        </p:spPr>
      </p:pic>
      <p:sp>
        <p:nvSpPr>
          <p:cNvPr id="415" name="Oval 104"/>
          <p:cNvSpPr/>
          <p:nvPr/>
        </p:nvSpPr>
        <p:spPr>
          <a:xfrm>
            <a:off x="457200" y="4267080"/>
            <a:ext cx="4572000" cy="236232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6FD1-F542-4F8B-AA4C-E71D8A256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Fragments of DNA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section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420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46"/>
            <p:cNvSpPr/>
            <p:nvPr/>
          </p:nvSpPr>
          <p:spPr>
            <a:xfrm>
              <a:off x="5943600" y="418284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53"/>
            <p:cNvSpPr/>
            <p:nvPr/>
          </p:nvSpPr>
          <p:spPr>
            <a:xfrm>
              <a:off x="1371600" y="418284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Footer Placeholder 6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62"/>
          <p:cNvCxnSpPr/>
          <p:nvPr/>
        </p:nvCxnSpPr>
        <p:spPr>
          <a:xfrm flipV="1">
            <a:off x="2666880" y="4647960"/>
            <a:ext cx="1843920" cy="20880"/>
          </a:xfrm>
          <a:prstGeom prst="straightConnector1">
            <a:avLst/>
          </a:prstGeom>
          <a:ln w="57240">
            <a:solidFill>
              <a:srgbClr val="92d050"/>
            </a:solidFill>
            <a:miter/>
          </a:ln>
        </p:spPr>
      </p:cxnSp>
      <p:cxnSp>
        <p:nvCxnSpPr>
          <p:cNvPr id="476" name="AutoShape 62"/>
          <p:cNvCxnSpPr>
            <a:endCxn id="463" idx="0"/>
          </p:cNvCxnSpPr>
          <p:nvPr/>
        </p:nvCxnSpPr>
        <p:spPr>
          <a:xfrm flipV="1">
            <a:off x="4876560" y="4662000"/>
            <a:ext cx="3647160" cy="7200"/>
          </a:xfrm>
          <a:prstGeom prst="straightConnector1">
            <a:avLst/>
          </a:prstGeom>
          <a:ln w="57240">
            <a:solidFill>
              <a:srgbClr val="92d050"/>
            </a:solidFill>
            <a:miter/>
          </a:ln>
        </p:spPr>
      </p:cxnSp>
      <p:sp>
        <p:nvSpPr>
          <p:cNvPr id="477" name="Rectangle 63"/>
          <p:cNvSpPr/>
          <p:nvPr/>
        </p:nvSpPr>
        <p:spPr>
          <a:xfrm>
            <a:off x="4876920" y="4419720"/>
            <a:ext cx="304560" cy="609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63"/>
          <p:cNvSpPr/>
          <p:nvPr/>
        </p:nvSpPr>
        <p:spPr>
          <a:xfrm>
            <a:off x="4267080" y="4419720"/>
            <a:ext cx="381240" cy="609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Quick Video to Help You Remember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..\..\..\Downloaded Videos\DNA Replication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Process.av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F30D-6EE1-4CD4-945D-38DF52062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864D-0BFD-432F-9821-373724711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(UV) rad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s of Repair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1) 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 when a repair enzyme removes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2) DNA polymerase and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work together to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8" name="Picture 8" descr="http://www.ihmteachers.org/Site%20Graphics/5-Free-Summer-Clipart-Illustration-Of-A-Happy-Smiling-Sun.jpg"/>
          <p:cNvPicPr/>
          <p:nvPr/>
        </p:nvPicPr>
        <p:blipFill>
          <a:blip r:embed="rId1"/>
          <a:stretch/>
        </p:blipFill>
        <p:spPr>
          <a:xfrm>
            <a:off x="6477120" y="1981080"/>
            <a:ext cx="2489040" cy="21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BCC7-6B18-4F4C-803B-DBF9C5608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6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4F09-B5A7-480D-8D51-4E04F1111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DNA in a protein “coa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447920" y="5943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DNA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2296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276200" y="571680"/>
            <a:ext cx="6591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E8AE-2768-4B1B-A952-D6544F376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 (double helix)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814840" cy="241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2"/>
          <a:stretch/>
        </p:blipFill>
        <p:spPr>
          <a:xfrm>
            <a:off x="6019920" y="43434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Kate</cp:lastModifiedBy>
  <dcterms:modified xsi:type="dcterms:W3CDTF">2012-02-06T00:06:32Z</dcterms:modified>
  <cp:revision>53</cp:revision>
  <dc:subject/>
  <dc:title>DNA Replication</dc:title>
</cp:coreProperties>
</file>